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281C-4AEA-4671-A145-EB689ACC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21D7-41A1-4A6F-A483-0937901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3A78-785C-4530-82C7-AA090E7C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0F9B-994D-463E-BDA8-D2F2A80C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B06-B8A4-4C44-9C08-38E5B41C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CAC-4A65-4A77-B371-368CBF30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3418-49B4-4013-99D3-420D91FF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15DF-CDAD-4239-A7E6-C0C8C67E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203F-6BA5-42D3-9A4F-96DE752C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D70B-C9C2-4B3B-863C-FF1DF3E0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1117-CD45-4392-9771-948CC8B1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FE87-4AD0-4967-901C-7C137818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D961-94CD-45E4-8B43-CF607729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4A7E-9F36-4CAF-93B4-8BC0515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64EA-84F7-4C95-9F50-756BC2B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D917-68E1-4092-92A4-4ED8E2E5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3C1-1EF7-41A4-92D9-72ADA852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8BDC-AA5A-426A-8D33-A481E86E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3CDA-982B-49FF-A835-6F0FBED5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965A-C61B-4FC6-A514-58E827B2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C026-9FBD-4292-A509-58F51B4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8001-3274-4052-88A3-DEE4A972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AC9A-C8F9-4869-BF28-2162192C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66F3-91DC-409C-A03C-4BE608D5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C3F0-3523-4E1A-BB54-778C9949F5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837-FA38-49E2-ABCD-D728254A1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ill There Was No Remed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ivided King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rter 6, Lesson 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ges 8-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Kings 12:21-14:18; 2 Chron.11:1 – 12:1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dah and Israel Compar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is forbidden to stop the rebell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fortifies Jud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s has a chance of pleasing G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eroboam Sets Up A False Relig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ligion of Conven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ethel –Shr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an – Shr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s has no chance of pleasing Go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dah and Israel Compar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Faithful In Israel Flee to Judah – 2 Chron.11:13-14, 16-1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’s Family – Well Provided For – 2 Chron.11:18-2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er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Prophecy of the Man of God -1 Kgs.13:1-3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oom is coming for this false relig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Jeroboam tries to bribe the man of G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udah and Israel Compar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eh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udah turns to Idola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hishak, Pharaoh of Egypt, invades Jud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divine wake-up-c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eroboam – 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 continues his idola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death of Jeroboam’s 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2:09:34Z</dcterms:created>
  <dc:creator> Tab Vines</dc:creator>
  <dc:description/>
  <dc:language>en-US</dc:language>
  <cp:lastModifiedBy>Frank D Vines</cp:lastModifiedBy>
  <dcterms:modified xsi:type="dcterms:W3CDTF">2005-07-04T03:36:25Z</dcterms:modified>
  <cp:revision>3</cp:revision>
  <dc:subject/>
  <dc:title>Till There Was No Remedy</dc:title>
</cp:coreProperties>
</file>